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02A1-6333-4C09-9D6A-F129FED50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FD24-2B8B-4357-961A-1DD3AABA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F312-5952-45B1-8500-E1AC4449E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BBE4-B36A-4483-98C5-B2A59DC69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4964-E7E2-4538-AB9C-0A3FA43DF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47F4-2C8D-44C7-89D1-C7EF7E2F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0372-189B-4193-85F4-31F3706D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2A3F-43B0-485F-BF37-E9C58526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6316-6652-4EDF-B817-49BD2967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C93B-3041-4B7B-81D6-48A84466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434B-4F46-4432-B7C9-44360DB3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16C7-FB39-4BCE-B69E-D63A7E20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BB44-E4EA-408B-A1A1-57560600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65D9-B857-41AD-8218-D731AC86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5CC6-A72D-4269-AD0E-F4D5C480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806F-E018-4664-AF45-40C92D4BC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0EB2-9E14-4C14-91DA-A26AA550A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9DD1-E91B-469E-B54A-C2AE4E35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61B2-CF82-486C-A850-BB16F699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17DA-5DB4-495D-8469-28B61A17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3D94-EBC3-49D5-A7B0-9A3C9BB6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575A-15E8-4942-8925-44DB0FA9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CA87-E26B-4AF6-9206-BEAD4213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AB95-F76C-4067-AAE5-9EAFE0C1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E4B1-81F8-4E84-95B3-B4CCE3D98A1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B3A6-53A6-4A26-A167-E85202B6D61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6" descr="ANd9GcS1O2diRgvGEmz5LMCQM3AX6MJRjknzdjxGMx0dnp13PNYGxujn"/>
          <p:cNvPicPr/>
          <p:nvPr/>
        </p:nvPicPr>
        <p:blipFill>
          <a:blip r:embed="rId1"/>
          <a:stretch/>
        </p:blipFill>
        <p:spPr>
          <a:xfrm>
            <a:off x="755640" y="234936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ANd9GcRXYtkENJ6Me-qlKTnqogVtO3lXpjTEhTtZU-OGpspzMB-zjZkVaQ"/>
          <p:cNvPicPr/>
          <p:nvPr/>
        </p:nvPicPr>
        <p:blipFill>
          <a:blip r:embed="rId2"/>
          <a:stretch/>
        </p:blipFill>
        <p:spPr>
          <a:xfrm>
            <a:off x="3486240" y="2376360"/>
            <a:ext cx="2171520" cy="2105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ANd9GcTfATqkmEhKfHICT6VK5SiTsopPIcCMBFgLVCrfbY4hRsrB0TRZIw"/>
          <p:cNvPicPr/>
          <p:nvPr/>
        </p:nvPicPr>
        <p:blipFill>
          <a:blip r:embed="rId3"/>
          <a:stretch/>
        </p:blipFill>
        <p:spPr>
          <a:xfrm>
            <a:off x="5867280" y="2349360"/>
            <a:ext cx="2152800" cy="21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687060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El uso de la </a:t>
            </a:r>
            <a:r>
              <a:rPr b="0" lang="es-ES_tradnl" sz="44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e usa </a:t>
            </a: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 en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En los adjetivos terminados en </a:t>
            </a: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oso y osa; aso, eso, uso.</a:t>
            </a:r>
            <a:br>
              <a:rPr sz="3200"/>
            </a:b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Ejemplos:</a:t>
            </a: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 generoso, hermoso, temerosa y graciosa; escaso, travieso, perezoso y confus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10920" y="620280"/>
            <a:ext cx="7840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En las palabras terminadas en sión que sean derivadas de una palabra que termina en so o sor.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Ejemplos: recesión, que proviene de la palabra receso, o ascensión, de ascenso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En la mayoría de los sustantivos terminados en eso.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Ejemplos: peso, hueso, ileso, etcétera. 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Comic Sans MS"/>
              </a:rPr>
              <a:t>Son excepción  las palabras:  aderezo, pescuezo, cerezo y tropiezo.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4000" y="691920"/>
            <a:ext cx="7559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En los adjetivos que forman su grado superlativo con las terminaciones ísimo e ísima.</a:t>
            </a:r>
            <a:br>
              <a:rPr sz="3200"/>
            </a:b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Ejemplos:</a:t>
            </a: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 buenísimo (extremadamente bueno) o bellísima, (extremadamente bella)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En las palabras derivadas que terminan en sivo y sible.</a:t>
            </a:r>
            <a:br>
              <a:rPr sz="3200"/>
            </a:b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Ejemplos:</a:t>
            </a: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 excesivo y comprensibl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Comic Sans MS"/>
              </a:rPr>
              <a:t>Usamos Z cuando: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4102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1.- Los adjetivos terminados en </a:t>
            </a:r>
            <a:r>
              <a:rPr b="1" i="1" lang="es-ES" sz="2800" spc="-1" strike="noStrike">
                <a:solidFill>
                  <a:srgbClr val="ff0000"/>
                </a:solidFill>
                <a:latin typeface="Comic Sans MS"/>
              </a:rPr>
              <a:t>az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 y </a:t>
            </a:r>
            <a:r>
              <a:rPr b="1" i="1" lang="es-ES" sz="2800" spc="-1" strike="noStrike">
                <a:solidFill>
                  <a:srgbClr val="ff0000"/>
                </a:solidFill>
                <a:latin typeface="Comic Sans MS"/>
              </a:rPr>
              <a:t>oz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, llevan z al final. </a:t>
            </a:r>
            <a:r>
              <a:rPr b="1" lang="es-ES" sz="2800" spc="-1" strike="noStrike">
                <a:solidFill>
                  <a:srgbClr val="ff0000"/>
                </a:solidFill>
                <a:latin typeface="Comic Sans MS"/>
              </a:rPr>
              <a:t>Ejemplos: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 capaz, atroz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2.- La mayor parte de las palabras terminadas en </a:t>
            </a:r>
            <a:r>
              <a:rPr b="1" i="1" lang="es-ES" sz="2800" spc="-1" strike="noStrike">
                <a:solidFill>
                  <a:srgbClr val="ff0000"/>
                </a:solidFill>
                <a:latin typeface="Comic Sans MS"/>
              </a:rPr>
              <a:t>anza.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lang="es-ES" sz="2800" spc="-1" strike="noStrike">
                <a:solidFill>
                  <a:srgbClr val="ff0000"/>
                </a:solidFill>
                <a:latin typeface="Comic Sans MS"/>
              </a:rPr>
              <a:t>Ejemplos: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bienaventuranza, lanza, chanza. Excepciones más notables son gansa y cansa (del verbo cansar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3.- La terminación </a:t>
            </a:r>
            <a:r>
              <a:rPr b="1" lang="es-ES" sz="2800" spc="-1" strike="noStrike">
                <a:solidFill>
                  <a:srgbClr val="ff0000"/>
                </a:solidFill>
                <a:latin typeface="Comic Sans MS"/>
              </a:rPr>
              <a:t>azgo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. </a:t>
            </a:r>
            <a:r>
              <a:rPr b="1" lang="es-ES" sz="2800" spc="-1" strike="noStrike">
                <a:solidFill>
                  <a:srgbClr val="ff0000"/>
                </a:solidFill>
                <a:latin typeface="Comic Sans MS"/>
              </a:rPr>
              <a:t>Ejemplos: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noviazgo, hallazg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691920"/>
            <a:ext cx="769608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4.- Las palabras que son aumentativos o expresan la idea de golpe, si terminan en </a:t>
            </a:r>
            <a:r>
              <a:rPr b="1" i="1" lang="es-ES" sz="3200" spc="-1" strike="noStrike">
                <a:solidFill>
                  <a:srgbClr val="ff0000"/>
                </a:solidFill>
                <a:latin typeface="Comic Sans MS"/>
              </a:rPr>
              <a:t>azo, aza.</a:t>
            </a: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 Ejemplos: </a:t>
            </a: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sablazo, manaz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5.- Las terminaciones </a:t>
            </a:r>
            <a:r>
              <a:rPr b="1" i="1" lang="es-ES" sz="3200" spc="-1" strike="noStrike">
                <a:solidFill>
                  <a:srgbClr val="ff0000"/>
                </a:solidFill>
                <a:latin typeface="Comic Sans MS"/>
              </a:rPr>
              <a:t>ez</a:t>
            </a: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 y </a:t>
            </a: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eza</a:t>
            </a: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 de los sustantivos abstractos, que indica que es o tiene lo que señala la raíz. Ejemplos: honradez de honrado; naturaleza de natura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23:12:17Z</dcterms:created>
  <dc:creator>lucero</dc:creator>
  <dc:description/>
  <dc:language>en-US</dc:language>
  <cp:lastModifiedBy>LPS</cp:lastModifiedBy>
  <dcterms:modified xsi:type="dcterms:W3CDTF">2017-05-02T17:06:55Z</dcterms:modified>
  <cp:revision>5</cp:revision>
  <dc:subject/>
  <dc:title>Diapositiva 1</dc:title>
</cp:coreProperties>
</file>